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7EA-C7B8-48AC-9A4F-64173867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08D-3A60-46EA-97DA-D8CDB92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AE8-1659-4D41-9A85-ADA1A3C1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A49-DEC0-4F9F-B346-9A2ADC9A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55E9-9CCB-4690-AE9D-400C5B93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699-5621-4CD6-B5CE-7775BFC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F04-6EE1-4783-96CF-14D310C6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5318-884C-42F7-98D9-3200543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8E85-8865-4C3F-9722-9B60C82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DDFB-FC61-493F-8D0D-C9568D6C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9B7-D6BD-4CBD-9C5C-FEB0ACC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ACF-AC93-4FD7-B9EA-8F0CCB2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B71F-19D2-4DB7-808D-A9414D2E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91A8-09D4-473E-ADB4-026EFC5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7FA-CB3B-45CF-A594-E211F276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7A6-EE54-47ED-AD38-A7FAC016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3C78-BE5C-4CB2-915E-4414C3E9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717-8D7D-4B3B-825D-82D6E32B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5B6-5B81-4350-B2D2-D9E2106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741-8AED-48AA-922B-796A150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D3A-22DF-4E94-9E86-BD7CD86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BF3-7546-432A-8FCE-1BDA969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246-73E7-4A8B-89D8-63382ED9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01E-5489-4386-BF9C-0516E6C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86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6A6-AC3C-4E84-8498-04D8EDBC17F6}" type="datetime"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5866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 u="sng">
                <a:solidFill>
                  <a:srgbClr val="3366ff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C87D-82D3-40DF-A181-4B10E40A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05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1D4-3B3F-4082-B3C1-69C568A3C2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19BF-5A04-43D1-869D-705CE1CD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61760" y="23619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1460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Grants/Consolidated Resource Plan (C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Requirements &amp;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762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de Island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Applications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unding Source to Request Funds or Report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for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29200" y="33526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h Reimbursement Re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8148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/Comments History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rterly Financial Statu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 Reporting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Expenditure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nditure Adjus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status of my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 CRP Coordinator Final Approved” is the Final/Awarded Status of an Approved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’s must move their application to “Superintendent Approved” status in order for RIDE to complete its review and continue to advance the application’s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can be approved only aft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s are deemed acceptable by both RIDE program and fiscal st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Y 07-08 Final Expenditure Reports for CRP programs must be on file with the RIDE finance office prior to FY 08-09 CRP application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pproved applications may request funds and report expendi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inancial Module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mplified Cash Reques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imely Fund Approv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kflow and Status Trac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roved Commun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Distinct Financi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imbursem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Financial Statu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xpenditure Reports (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LEA’s must use these components for FY 2008 – 2009 CRP approved programs.  (Old) paper based requests/reports will not be acce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stem Use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gram &amp; Financial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Compl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Expenditur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R E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Compl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Expenditure Reports (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ct Business Man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ppr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Expenditur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Expenditure Reports (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k Flow – Creating Cash Reimbursemen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 Completed (or Delete this Cash Reimbursement Requ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ct Business Manager Approved (or District Business Manager Return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DE Grant Reviewer Approved (or RIDE Grant Reviewer Return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tted for Payment (or Withheld from Bat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k Flow – Quarterly Financial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u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Business Manager Approved – RID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Business Manager Submitt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ystem valid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r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Business Manager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Grant Reviewer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Grant Reviewer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ancial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Reports are due within 15 days after end of each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will not allow funds to be requested when quarterly reports are past d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reports can be revised in system until FER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 is due 30 days after the end of the projec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complete for all CRP programs on the sam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complete “Expenditure Adjustment” report which designates balances to carryover into next fiscal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scellaneou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dv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not allowed except for the end of state fiscal year reporting purposes to account for accrual and encumbrance bal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und checks are required for over requested 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 will enter refunded amount in the system to adjust the “Net Amount Paid to Date” balance to account for refund checks after it is received from distri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 the past, letter explaining the need to refund must accompany ch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 Transfers (Transferabilit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RIDE for specific to handle cash requests and FER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20:44Z</dcterms:created>
  <dc:creator>bircja</dc:creator>
  <dc:description/>
  <dc:language>en-US</dc:language>
  <cp:lastModifiedBy>luthda</cp:lastModifiedBy>
  <dcterms:modified xsi:type="dcterms:W3CDTF">2008-09-17T14:09:44Z</dcterms:modified>
  <cp:revision>46</cp:revision>
  <dc:subject/>
  <dc:title>Slide 1</dc:title>
</cp:coreProperties>
</file>