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832A57-5B80-4F8A-9924-15BE87DCD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E2732E-15BD-44E4-B84C-165D4C43D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1240A4-046E-4BE2-8B9E-2C2C0ADF4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4C54D9-9914-4B29-839A-AC9537413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2634A5-42DB-479F-B2CB-03C1963B7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2B9EAA-9C91-49B5-99E8-B53B8EE9E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B6546B-D0EA-4399-BEF6-AF4B73281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83F5EF-3B1A-4547-A955-9AD38B053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CEE-0587-4712-9D2B-B0452B7D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2DAD-0D9F-4E0F-9713-45B595F1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EBC-1E85-419C-A478-C2CCAF01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F3F-7D78-4360-A253-671F735C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9608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DDE-6CB3-4E21-817A-093F8B29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AA32-038C-4F12-83F9-312C1B2D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A6AD-CE8F-457F-B5A2-9415FD45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6192-2CBC-448D-B62C-01AB07DB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D93F-0B52-40F7-A078-6A514B23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5266-79F6-4230-B296-37292B79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1E4-09EB-4A59-8418-AFA63E51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9608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50C3-F60F-46CF-B5EB-FAFAF760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1938-7923-4F28-8A39-CB7D3131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F9D2-9FEE-42CB-AE76-6328CC7B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40BF-68CE-46F0-B2DE-9B712FAF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621C-D148-4268-8C0C-1C3E2B71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335D-AB0A-414D-9548-1E4C457F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BEE4-91D9-4EE6-A198-D2501B6F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6EF-31C0-48CD-AEAC-72EE32C7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9608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224-C0EE-4C49-B7C6-74C81323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9608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58E-8DE9-4475-8053-1C024D27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F54-AA71-46C5-BA6A-7D304E20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289-1B31-4E7E-AB06-C11432ED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AEC-B74C-4F92-AA88-642D9E50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866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CE1F-374F-4D7F-B268-B340CF1B826E}" type="datetime">
              <a:rPr b="0" lang="en-US" sz="1400" spc="-1" strike="noStrike">
                <a:solidFill>
                  <a:srgbClr val="3366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586692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 u="sng">
                <a:solidFill>
                  <a:srgbClr val="3366ff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3366ff"/>
                </a:solidFill>
                <a:uFillTx/>
                <a:latin typeface="Times New Roman"/>
              </a:rPr>
              <a:t>This is the Report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451A-AA22-4CB0-A54F-C16BCAB8A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ight Triangle 6"/>
          <p:cNvSpPr/>
          <p:nvPr/>
        </p:nvSpPr>
        <p:spPr>
          <a:xfrm rot="16200000">
            <a:off x="6057720" y="3771360"/>
            <a:ext cx="685800" cy="5486400"/>
          </a:xfrm>
          <a:prstGeom prst="rtTriangle">
            <a:avLst/>
          </a:prstGeom>
          <a:solidFill>
            <a:srgbClr val="2b5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bjackson\Pictures\1264185964230.gif"/>
          <p:cNvPicPr/>
          <p:nvPr/>
        </p:nvPicPr>
        <p:blipFill>
          <a:blip r:embed="rId2"/>
          <a:stretch/>
        </p:blipFill>
        <p:spPr>
          <a:xfrm>
            <a:off x="304920" y="6019920"/>
            <a:ext cx="1095120" cy="736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8156520" y="231840"/>
            <a:ext cx="74952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38052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3C8A-86BA-4DC6-B6C0-136A6DF1EBA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the Report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4629-69DD-4E5E-8C35-AC69B8E7C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ight Triangle 6"/>
          <p:cNvSpPr/>
          <p:nvPr/>
        </p:nvSpPr>
        <p:spPr>
          <a:xfrm rot="16200000">
            <a:off x="6057720" y="3771360"/>
            <a:ext cx="685800" cy="5486400"/>
          </a:xfrm>
          <a:prstGeom prst="rtTriangle">
            <a:avLst/>
          </a:prstGeom>
          <a:solidFill>
            <a:srgbClr val="2b5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bjackson\Pictures\1264185964230.gif"/>
          <p:cNvPicPr/>
          <p:nvPr/>
        </p:nvPicPr>
        <p:blipFill>
          <a:blip r:embed="rId2"/>
          <a:stretch/>
        </p:blipFill>
        <p:spPr>
          <a:xfrm>
            <a:off x="304920" y="6019920"/>
            <a:ext cx="1095120" cy="73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8156520" y="231840"/>
            <a:ext cx="749520" cy="65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bjackson\Pictures\1264185964230.gif"/>
          <p:cNvPicPr/>
          <p:nvPr/>
        </p:nvPicPr>
        <p:blipFill>
          <a:blip r:embed="rId4"/>
          <a:stretch/>
        </p:blipFill>
        <p:spPr>
          <a:xfrm>
            <a:off x="304920" y="6019920"/>
            <a:ext cx="1095120" cy="736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7467480" y="165240"/>
            <a:ext cx="1511280" cy="1328760"/>
          </a:xfrm>
          <a:prstGeom prst="rect">
            <a:avLst/>
          </a:prstGeom>
          <a:ln w="0">
            <a:noFill/>
          </a:ln>
        </p:spPr>
      </p:pic>
      <p:sp>
        <p:nvSpPr>
          <p:cNvPr id="128" name="Right Triangle 10"/>
          <p:cNvSpPr/>
          <p:nvPr/>
        </p:nvSpPr>
        <p:spPr>
          <a:xfrm rot="5400000">
            <a:off x="2400120" y="-2400120"/>
            <a:ext cx="685800" cy="5486400"/>
          </a:xfrm>
          <a:prstGeom prst="rtTriangle">
            <a:avLst/>
          </a:prstGeom>
          <a:solidFill>
            <a:srgbClr val="2b5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376092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de Island Department of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1460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6-2017 Accelegrants Train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ult Education Funding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3,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:\Users\chouki\AppData\Local\Microsoft\Windows\Temporary Internet Files\Content.IE5\TSMUFSVC\Student_assignment_examples[1]"/>
          <p:cNvPicPr/>
          <p:nvPr/>
        </p:nvPicPr>
        <p:blipFill>
          <a:blip r:embed="rId1"/>
          <a:stretch/>
        </p:blipFill>
        <p:spPr>
          <a:xfrm>
            <a:off x="682560" y="3809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55200" y="1523880"/>
            <a:ext cx="8031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carefully review the application details guide and budget guidance before you complete your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contact your RIDE ABE Program Specialist to discuss major changes to existing programs or scope of services or to review any questions that you may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The RIDE Adult Education Program Specialist case assignment list will be available in the ABE document library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655560" y="2286000"/>
            <a:ext cx="818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C:\Users\chouki\AppData\Local\Microsoft\Windows\Temporary Internet Files\Content.IE5\H5VHWFHQ\question-mark[1].jpg"/>
          <p:cNvPicPr/>
          <p:nvPr/>
        </p:nvPicPr>
        <p:blipFill>
          <a:blip r:embed="rId1"/>
          <a:stretch/>
        </p:blipFill>
        <p:spPr>
          <a:xfrm>
            <a:off x="1160640" y="23760"/>
            <a:ext cx="1188720" cy="15858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1235160" y="762120"/>
            <a:ext cx="63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you have question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lcome-Purpose of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celegrants System Overview and Fis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verview of Adult Education Application S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pplication Details (Basic Program Information Gu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udge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mportant and Relate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cument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view of  Accelegrants Release Calendar, Preliminary Allocation Notification and Application Submission D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ult Education Application Detai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3240" y="11426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j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hang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2016-2017  Basic Program Application Gu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sections do have additional fields and minor revisions to the 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’s presentation will highlight the specific updates to the application details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C:\Users\chouki\AppData\Local\Microsoft\Windows\Temporary Internet Files\Content.IE5\P4I7NY6B\apply_here_button[1].gif"/>
          <p:cNvPicPr/>
          <p:nvPr/>
        </p:nvPicPr>
        <p:blipFill>
          <a:blip r:embed="rId1"/>
          <a:stretch/>
        </p:blipFill>
        <p:spPr>
          <a:xfrm>
            <a:off x="0" y="407880"/>
            <a:ext cx="127944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69608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 Budge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C:\Users\chouki\AppData\Local\Microsoft\Windows\Temporary Internet Files\Content.IE5\TSMUFSVC\budget[1].png"/>
          <p:cNvPicPr/>
          <p:nvPr/>
        </p:nvPicPr>
        <p:blipFill>
          <a:blip r:embed="rId1"/>
          <a:stretch/>
        </p:blipFill>
        <p:spPr>
          <a:xfrm>
            <a:off x="914400" y="228600"/>
            <a:ext cx="1120680" cy="1189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able costs 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cess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proper and efficient performance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ason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at it would be a cost that a prudent person would incur under similar circum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locabl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program, such that the program must benefit in proportion to the amount charged to the federal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thor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otherwise not prohibited, by state and local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14600" y="274680"/>
            <a:ext cx="4648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dget T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7600" y="1293480"/>
            <a:ext cx="86104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r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Enter the applicable reserve category for all budget entries. You can select “Unspecifi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Ba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vide a “number sentence” to provide detail for the cost.  60 units x $20 per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ndicate the position to be funded, service(s) to be provided, or items(s) to be purch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stif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how the request is specific to the program goals and why it is necessary to          implement the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C:\Users\chouki\AppData\Local\Microsoft\Windows\Temporary Internet Files\Content.IE5\RH1E2P0W\Budget[1].jpg"/>
          <p:cNvPicPr/>
          <p:nvPr/>
        </p:nvPicPr>
        <p:blipFill>
          <a:blip r:embed="rId1"/>
          <a:stretch/>
        </p:blipFill>
        <p:spPr>
          <a:xfrm>
            <a:off x="609480" y="93600"/>
            <a:ext cx="192096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9608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 Doc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mpl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required supplemental application documents can be found in the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Important Docu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tion on the Match Application on the Application Sections Home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iority area narrative document for 2016-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Development Reserve Assurance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ances, Program Income Declaration forms and Professional Development Reserve Assurances are required for ALL adult educatio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Users\chouki\AppData\Local\Microsoft\Windows\Temporary Internet Files\Content.IE5\BH2Y4AUW\nm_tb-documents[1].png"/>
          <p:cNvPicPr/>
          <p:nvPr/>
        </p:nvPicPr>
        <p:blipFill>
          <a:blip r:embed="rId1"/>
          <a:stretch/>
        </p:blipFill>
        <p:spPr>
          <a:xfrm>
            <a:off x="533520" y="200160"/>
            <a:ext cx="146340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93200"/>
            <a:ext cx="7696080" cy="6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lated Doc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ing documentation for the adult education application should be uploaded and saved to the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Rel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Docu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tion of your AcceleGrants application. Documents requiring signatures must be scanned as clear, legible copies and uploa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name related documents clearly. (e.g. 2016-17 ABE Job Description.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Documents will be saved permanently with the application when it is approved in the AcceleGrants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C:\Users\chouki\AppData\Local\Microsoft\Windows\Temporary Internet Files\Content.IE5\TSAS2UVU\file-server[1].png"/>
          <p:cNvPicPr/>
          <p:nvPr/>
        </p:nvPicPr>
        <p:blipFill>
          <a:blip r:embed="rId1"/>
          <a:stretch/>
        </p:blipFill>
        <p:spPr>
          <a:xfrm>
            <a:off x="838080" y="152280"/>
            <a:ext cx="127980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lated Documents (contd,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ned copies of required documents must be uploaded as related docu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copies are not required.  The program must maintain original signed documents on file for future audits or monito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**Quarterly program reports must be uploaded in the document library section for your program. (instructions will be made available to 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74400" y="325080"/>
            <a:ext cx="7412040" cy="18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ult Basic Education</a:t>
            </a:r>
            <a:br>
              <a:rPr sz="32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Document Library in Accelegrant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97964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is available without logging into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s adult education statutory, policy, guidance and resource documents and hyper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clude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16-20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ication Details Gu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dget Guidance and Program Management Guide for New Dir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C:\Users\chouki\AppData\Local\Microsoft\Windows\Temporary Internet Files\Content.IE5\RH1E2P0W\computer%20reading[1].jpg"/>
          <p:cNvPicPr/>
          <p:nvPr/>
        </p:nvPicPr>
        <p:blipFill>
          <a:blip r:embed="rId1"/>
          <a:stretch/>
        </p:blipFill>
        <p:spPr>
          <a:xfrm>
            <a:off x="68400" y="826920"/>
            <a:ext cx="1461960" cy="117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19:53:27Z</dcterms:created>
  <dc:creator>Colleen Hedden</dc:creator>
  <dc:description/>
  <dc:language>en-US</dc:language>
  <cp:lastModifiedBy>Chouinard, Kim</cp:lastModifiedBy>
  <cp:lastPrinted>2016-05-10T14:57:16Z</cp:lastPrinted>
  <dcterms:modified xsi:type="dcterms:W3CDTF">2016-05-19T13:43:10Z</dcterms:modified>
  <cp:revision>308</cp:revision>
  <dc:subject/>
  <dc:title>PowerPoint Presentation</dc:title>
</cp:coreProperties>
</file>